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581-71CA-4828-80FA-30B6A7D7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477-C994-403C-9656-3C1FA9E0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D7EDA-6B2B-44B7-9D45-435258A5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F7AA3-7959-4F5B-BA50-11E0B9A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45C83-AF78-4A0B-8F65-9D0C05FC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7D1C93-D647-4474-A896-857BBAC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7D971B-75BB-4B1A-9638-5B1AED7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4BB0E1-BB44-4F08-A4AA-15B635A6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BB5759-1729-4EAD-8B11-D3785153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DD865-8AB5-43A6-8C39-8E22E436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21579B-C8DB-4175-B005-852A04EE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2E411-95FB-4E1A-9038-951FD072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DFE-3ED6-41D6-9FC6-A58104B2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10780-E8E4-43A1-9EE8-5EF0D672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B7984-78AE-4BA0-9AF2-E13C7EE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20AA6-62C8-4146-B34A-292F2656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C4CAF-5632-47C3-96FD-DE2306C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9A692-151B-4759-8417-C6C3543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62E7C-C20B-4BEE-96EF-4919B7E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72C30-1172-48FD-835C-66AEF92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B3251-FC6B-4B35-9454-213CFC3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F0EC-4B9B-4492-B63F-7603D486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C9FE7-F22C-4C02-80AF-2DA0D57F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A35-5C42-42D1-8FEC-F00C4EFE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2D832-4D29-45FC-AC5C-1F520F74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7379-13F2-4E4A-8A0D-A01BA7D7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F9CB-B2A0-437A-AF6C-6293CA8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0B17-3B44-4BCA-8E27-91567E45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9601-5C55-4C24-A1BF-D05D793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4B32-D750-4347-A7C8-5BC028C4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6567-1BF8-4DB0-ACC1-B2A4D7FC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7482-8FAF-427B-B444-B775FDB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862-3436-4BFB-8A98-EBE5E472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AFC-A1FE-4646-B536-3DE247D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9CF-5B53-4235-94CB-FEAC9A7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EECD-016A-482B-9216-1D7DB734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7E4D-8C82-49E4-961E-4E277C52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5DED-8AA4-4291-B54B-F1ADFEE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1AE0-C2A5-4A9B-B317-F5F6D288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2E89-6D90-4A58-A0CA-B297190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2D05-9A16-4A59-8661-6368E53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64F6-C719-4BA2-806D-EC9D60B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254D-64D7-4D77-AB7B-E228A687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ACF-9978-417B-80B9-817BB4B6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BF73-A140-45F5-8465-366ADDF1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D548-0019-4DF2-B0E5-E88AB92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7D7E-BEA2-4DA2-9EAE-6B74A4C1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1769-123E-4A7B-983B-D61F58AE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35D4-853D-4838-8233-BED3D28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B155-08A1-42C6-88AD-127EB90E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3C01-8709-49AD-AAA6-1E969F01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BE50-8E1A-4C7B-9EFA-9BF34CF5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72F1-1138-4C36-A5A8-058A88D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A0D2-CF51-48F9-99F1-8DE45718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591-F5BC-4061-8E15-4790C8C0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F707-1FA5-41DF-894A-BB271783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7496-5DC8-4CFB-B923-33503F5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DF28-F68D-474D-B112-1908C98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0172-A703-473F-949A-1AE77E24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02F9-7C26-4B59-B967-1212BB5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3860-E05D-490B-AE9B-68E6DD3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9899-73B2-461D-B947-4A2FC29B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B8E7-7B67-4673-984F-3AF192A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675A-9296-490B-9F1F-725C0428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A61E-CAF8-48D5-AAE5-896A51B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1F9-7961-4501-8512-A943F06E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EB01-637C-4172-97FF-D93C0F5D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826A-525F-4C3E-B4F7-56261A06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77BD-435B-47F0-8C3A-14F2D9CE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76E4-5B46-4DEE-BE9A-685F0085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F0AB-B1AB-4CA4-818B-0693D6FE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C7F45-7BA4-48BC-8CF7-F35D5733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7031-8E31-440B-8FAE-B4509E8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9B7A-4574-46A3-9C9B-9485FD5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ADB0-D66C-45EA-A2DD-869C31D1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FEEE-9F40-4162-9FAE-84B3DC5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B43-9224-4384-9DC3-880B0D1E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D363-1581-4367-B2CC-9BE94B04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61D1-6FF1-4966-AE5F-62445BAD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B767-77F6-43E3-B55E-3205444D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49E3-9314-4903-8B8D-5738317A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8CD5-7965-45D2-AB63-0AE73A3D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4A97-8A68-451C-AA65-4EB04899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CA37-4C5B-4EFE-BEB8-AB7B0E92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2E1F-A9F2-401A-BBC1-6591528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468D8-0189-412B-8C5D-69DC065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62AD3-0767-428C-BFC6-B7F46014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7D6-AF10-4D7B-9D4D-B82E7DD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E64B-793B-4961-911B-157EFAD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602F-77BC-4F83-BF99-6C110B86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B263B-2754-41F8-ADA4-AF15A0E9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7D01-FC76-4A1D-9EAF-A345270D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35CA1-CDFF-4042-A77D-143287E8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727D-3544-46FE-A926-BE30AF0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4FB3-94C5-4AE6-8069-E079E1F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DE318-5F04-4E57-89E1-BED3442A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6DB5-95AF-47AC-AB07-2FF7EA4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613F-E657-4E63-A64E-C1B770A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3B4-A000-4D6D-91BE-4E9843C8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4D95-9282-4576-B468-98BBD7C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2C1C-F3EB-4DAB-B774-4AE4517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DBB0D-D354-4D22-9B6E-0E1E8BC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5DBC-3A5A-4979-B83F-B330C5B6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0862-DAA2-46B0-8C4F-4FE5AD5E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1D34-4D39-48AF-8C31-99869FD3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001BD-67DC-44D3-B6EF-A7DFB6E5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A3C6D-9380-4402-8D32-A651789D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11B06-597F-4429-B5DE-37E012C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E76F-F827-44C9-994D-9353AF8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8DD-86B1-49F0-8017-FD3B119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A816F-288A-4E01-8A13-37E449BE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31478-7897-44F6-AD2C-4B53D0F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2677-19F7-461D-B8E3-FA8CDD5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E609-D766-431A-93D1-3AE849A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595B9-69E4-417D-A9A6-63D2354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5896-2187-4498-99B2-816F9E3F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4A5A4-612C-4517-AB3F-D7FA5967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F354F-F2E8-4273-A213-8EB593B0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88F68-09FA-48F0-84B2-7192A6B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53FC7-EF03-4CBB-AB43-8E62E3D1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03D-1337-4702-8160-F6D5C73A1B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5302-CA83-4348-B59E-D4372D8504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2EA-478A-414F-A5F8-A398EF75B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99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79BB-6B3A-470B-858D-361DE24D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45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E7E5-4B3F-4DF4-A8C3-81FCD85F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4C7-78AD-478B-98A4-DCCACFDCE9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3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EB1-4743-43A2-B605-E8C8522C6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51BF-5DC8-4C1D-B482-6821EBE317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289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DE9-80D5-4F16-9C38-C5A6A4B60A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36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653-7501-43AD-AB7F-7264B2CF67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du.ro/" TargetMode="External"/><Relationship Id="rId2" Type="http://schemas.openxmlformats.org/officeDocument/2006/relationships/hyperlink" Target="http://www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8174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CONSFATUIREA 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PROFESORILOR DE CHIMIE</a:t>
            </a:r>
            <a:br>
              <a:rPr sz="3000"/>
            </a:b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IN VEDEREA PREGATIRII ANULUI SCOLAR 2009-2010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742840" y="4952880"/>
            <a:ext cx="441972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L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Septembrie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1523880" y="5335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ECTORATUL SCOLAR JUDETEAN G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 şcolar 2009 -2010 are 35 săptămâni de cursuri;</a:t>
            </a:r>
            <a:br>
              <a:rPr sz="24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clasa a IX-a liceu filiera tehnologică, zi, durata este de 39 săptămâni, din care 36 cursuri şi 3 practică;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clasa a X-a SAM, a XII-a liceu filiera tehnologică, ruta directă, clasa a XIII-a ruta progresivă este de 36 săptămâni, din care 35 cursuri şi 1 practică;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clasa a XI-a anul de comple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 înv. special, clasele a IX-a - a XI-a, filiera tehnologică, durata cursurilor este de 37 săptămâni, ultimele două de practică;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clas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I-a liceu, filiera tehnologică, rută directă şi clasa a XII-a liceu, filiera tehnologică, ruta progresivă – 37 respectiv 38 săptămâni, ultimele 2 respectiv 3 săptămâni sunt de practic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zele de pe semestrul I se susţin până pe data de 18 decembrie 200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ezele de pe semestrul II se susţin până pe data de 14 mai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SPONSABILI DE CERCURI METOD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c metodic licee Galati – prof. Moraru Mariana - L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c metodic scoli gimnaziale Galati – prof. Banea Nicoleta – Sc. 22, Galat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c metodic Tecuci – Vasu Maria – Sc. 1 Corod, Tecuc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ERCURI METOD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LICEU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GALA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Colegiul </a:t>
            </a:r>
            <a:r>
              <a:rPr b="0" lang="ro-RO" sz="3200" spc="-1" strike="noStrike">
                <a:solidFill>
                  <a:srgbClr val="0033cc"/>
                </a:solidFill>
                <a:latin typeface="Arial"/>
              </a:rPr>
              <a:t>de Industrie Alimentară “Elena Doamna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0" lang="ro-RO" sz="3200" spc="-1" strike="noStrike">
                <a:solidFill>
                  <a:srgbClr val="0099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.11.200</a:t>
            </a:r>
            <a:r>
              <a:rPr b="0" lang="ro-RO" sz="3200" spc="-1" strike="noStrike">
                <a:solidFill>
                  <a:srgbClr val="0099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, ora 9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“Interdisciplinaritatea şi învăţarea prin proiec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legiul Na</a:t>
            </a:r>
            <a:r>
              <a:rPr b="0" lang="ro-RO" sz="3200" spc="-1" strike="noStrike">
                <a:solidFill>
                  <a:srgbClr val="0033cc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onal “</a:t>
            </a:r>
            <a:r>
              <a:rPr b="0" lang="ro-RO" sz="3200" spc="-1" strike="noStrike">
                <a:solidFill>
                  <a:srgbClr val="0033cc"/>
                </a:solidFill>
                <a:latin typeface="Arial"/>
              </a:rPr>
              <a:t>Mihail Kogălniceanu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0" lang="ro-RO" sz="3200" spc="-1" strike="noStrike">
                <a:solidFill>
                  <a:srgbClr val="0099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.04.20</a:t>
            </a:r>
            <a:r>
              <a:rPr b="0" lang="ro-RO" sz="3200" spc="-1" strike="noStrike">
                <a:solidFill>
                  <a:srgbClr val="0099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, ora </a:t>
            </a:r>
            <a:r>
              <a:rPr b="0" lang="ro-RO" sz="3200" spc="-1" strike="noStrike">
                <a:solidFill>
                  <a:srgbClr val="0099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rea efici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coală î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d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nevoile de cunoaştere ale elevi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laborarea unei program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 disciplin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68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68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68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68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RCURI METOD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MNAZIU GALATI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nicipiul Galati + zonele: Galati -Tudor Vladimirescu, Galati - Cudalbi, Galati – Foltesti – Cuca – Rediu, Galati - Tg. Bujor - Ber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M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c. 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40 + Şc. 2 Pechea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– 1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.11.200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, ora 1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.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Implementarea efici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coală î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d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nevoile de cunoaştere ale elevi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laborarea unei program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 disciplin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M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c. 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18 + Şc. Stoicani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- 1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.0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.20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, ora 9.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“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disciplinaritatea şi învăţarea prin proiec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68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68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68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68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RCURI METOD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UCI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nicipiul Tecuci + zonele: Tudor Vladimirescu -Tecuci, Tecuci – Nicoresti – Priponesti – Corod -Valea Marului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IMIE-FIZ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M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Liceul “Calistrat Hogaş”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Tecuci,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 7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.11.200</a:t>
            </a:r>
            <a:r>
              <a:rPr b="0" lang="ro-RO" sz="2800" spc="-1" strike="noStrike">
                <a:solidFill>
                  <a:srgbClr val="0099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, ora 10.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Implementarea efici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coală î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d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nevoile de cunoaştere ale elevi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laborarea unei program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 disciplin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M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disciplinaritatea şi învăţarea prin proiec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68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68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68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68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096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PROGRAME SCOLARE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PLANURI CADRU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80"/>
                </a:solidFill>
                <a:latin typeface="Arial"/>
              </a:rPr>
              <a:t>Planurile – cadru: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Planurile-cadru pentru clasele 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-VIII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, aprobat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e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prin OM Nr. 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3638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11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04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.200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Planurile-cadru de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învăţământ pentru clasele IX-XII, filierele teoretică şi vocaţională cursuri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de zi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, aprobat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e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prin O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M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Nr. 3410/16.03.2009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Planurile-cadru de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învăţământ pentru clasa a IX-a, ciclul inferior al liceului, filiera tehnologică, învăţământ de zi şi învăţământ seral, aprobat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e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prin O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M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Nr. 3411/16.03.2009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Planurile-cadru de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învăţământ pentru:clasa a X-a, şcoala de arte şi meserii;clasa a X-a, ciclul inferior al liceului, filiera tehnologică, ruta directă de calificare; clasa a XI-a, 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an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ul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de completare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; clasele a XI-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a,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XII şi a XII-a/a XII-a, ciclul superior al liceului, filiera tehnologică cursuri de zi şi seral,  aprobat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e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prin O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M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 Nr. 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412/16.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0</a:t>
            </a:r>
            <a:r>
              <a:rPr b="0" lang="ro-RO" sz="1600" spc="-1" strike="noStrike">
                <a:solidFill>
                  <a:srgbClr val="0099ff"/>
                </a:solidFill>
                <a:latin typeface="Arial"/>
              </a:rPr>
              <a:t>3.2009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E GIMNAZIU O.M. 5097 / 09.09.2009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66"/>
                </a:solidFill>
                <a:latin typeface="Arial"/>
              </a:rPr>
              <a:t>PROGRAME LICEU O.M. 5099 / 09.09.2009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660066"/>
                </a:solidFill>
                <a:latin typeface="Arial"/>
              </a:rPr>
              <a:t>PLANURILE –CADRU ŞI PROGRAMELE ŞCOLARE, în vigoare,  pot fi accesate la adresa: </a:t>
            </a:r>
            <a:r>
              <a:rPr b="0" lang="ro-RO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</a:t>
            </a:r>
            <a:r>
              <a:rPr b="0" lang="ro-RO" sz="1600" spc="-1" strike="noStrike" u="sng">
                <a:solidFill>
                  <a:srgbClr val="ff99ff"/>
                </a:solidFill>
                <a:uFillTx/>
                <a:latin typeface="Arial"/>
                <a:hlinkClick r:id="rId2"/>
              </a:rPr>
              <a:t>://</a:t>
            </a:r>
            <a:r>
              <a:rPr b="0" lang="ro-RO" sz="1600" spc="-1" strike="noStrike" u="sng">
                <a:solidFill>
                  <a:srgbClr val="ff99ff"/>
                </a:solidFill>
                <a:uFillTx/>
                <a:latin typeface="Arial"/>
                <a:hlinkClick r:id="rId3"/>
              </a:rPr>
              <a:t>www.edu.ro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, ultimele document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ANUALE SCOLA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016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ele şcolare valabile în anul şcolar 2009-2010 sunt cele care au fost în vigoare şi în anul şcolar 2008-2009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Există pe site-ul MECI la CNCEIP un document oficial final de tipul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ALOGUL MANUALELOR  ŞCOLARE CARE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VOR FI UTILIZATE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N SISTEMUL DE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NVĂŢĂMÂNT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N ANUL ŞCOLAR 2009-2010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PREGATIREA CADRELOR DIDACTICE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oasterea documentelor scolare: planurile-cadru si programele scolare in vigoar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tilizarea ghidurilor metodologic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gatirea de specialitate si metodic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tilizarea programului AEL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CERINTELE INSPECTIEI DE SPECIALITATE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egerea filosofiei programei scol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noasterea competente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ocierea continuturilor in functie de competentele specif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area informatiilor la nivel de intelegere si pregatire a elevi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rea demersului didactic in sistemul de lectii al disciplinei si realizarea conexiunilor la nivel intra-, inter- si trans-disciplin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rea strategiei adecvate in functie de componentele lectie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ea activitatii didactice din perspectiva eficiente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tar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URSURI 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Ş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LARE 20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-2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Olimpiada Na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ţ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ional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ă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 de Chimie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ude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1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01.200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Grup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Şcolar “Sf. Mari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na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al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31.01.2010- 5.02.2010 , Piteş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TINUTUL DOSARULUI COMISIEI METOD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MPONENTA ORGANIZATO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 anului scol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drar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a catedrei (nume, grade didactice, vech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rul membrilor comis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URSURI 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Ş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LARE 20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-2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Concursul de chimie pentru clasa a VII-a “Raluca Ripa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jude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i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– Şcoala nr. 9 Galaţ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na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onal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unie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Satu M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URSURI 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Ş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LARE 20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-2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Olimpiada Na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ţ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ional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ă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 de 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Ş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tiin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ţ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 pentru Juni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jude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i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 – Şcoala nr. 12 Galaţ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na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onal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-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08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Orad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URSURI 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Ş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LARE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20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-2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Concursul Interdisciplinar “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Ş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tiin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ţ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le P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ă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m</a:t>
            </a:r>
            <a:r>
              <a:rPr b="1" lang="ro-RO" sz="3600" spc="-1" strike="noStrike">
                <a:solidFill>
                  <a:srgbClr val="993300"/>
                </a:solidFill>
                <a:latin typeface="Times New Roman"/>
              </a:rPr>
              <a:t>â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ntului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jude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i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 – Liceul “E. Racoviţă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na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onal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21-26.07.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Bîr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URSURI 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Ş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LARE 20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-2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Concursul de chimie si fizica pentru scolile din invatamantul rural “Impuls Perpetuum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jude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mai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 – Şcoala Vânăt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za na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onal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ugust 20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De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NCURSURI 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Ş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OLARE 20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-20</a:t>
            </a:r>
            <a:r>
              <a:rPr b="0" lang="ro-RO" sz="4000" spc="-1" strike="noStrike">
                <a:solidFill>
                  <a:srgbClr val="42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himexpert - site-ul devine activ de pe 15 septemb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himia – prieten sau duşm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!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– Colegiul Tehnic “D. Moţoc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rin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al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rofesorilor de chimie –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ptembrie 2010 Constanţ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20000"/>
                </a:solidFill>
                <a:latin typeface="Times New Roman"/>
              </a:rPr>
              <a:t>Alte comunicăr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Termenul de transmitere la ISJ a programelor pentru CDŞ este 2 octombri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rogramele pentru CDŞ se avizează în fiecare a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uşcaşu Vl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457200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autamoamenimari.ro/vizualizare.php?page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-7632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UN AN SCOLAR PLIN DE SUCCES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MPONENTA MANAGERI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ortul de activitate pe anul scolar preced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ul managerial si planul de activita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ri anuale (vizate de seful comisiei si directo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ri pe unitati de invatare (vizate de seful comisie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a manualelor alterna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butiile comisiei metod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 responsabilitati ale membrilor comisiei la nivelul unitatii sco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MPONENTA MANAGERI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ele scolare pe nivele de studi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ele disciplinelor optionale (in copie, vizate de inspectorul de specialitate pentru anul scolar in cur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, comunicari, note ale ISJ si ME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mise de conducerea scolii catre comisie (coresponde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ff"/>
                </a:solidFill>
                <a:latin typeface="Arial"/>
              </a:rPr>
              <a:t>COMPONENTA OPERATION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ecte didact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 predictive, teste de evaluare, teste suma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rea rezultatelor inregistrate la testele predic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ofolii, referate, alte metode de evaluare utilizate la nivelul catedre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ele verbale ale sedintelor comisiei metod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e de pregatire pentru recuperarea cunostintelor (numele elevilor si cl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COMPONENTA EXTRACURRICULA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ul consultatiilor pentru bacalaureat (pe clase si profesor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ul de pregatire pentru performan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rea rezultatelor obtinute la concursurile sco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curi ale elevilor, reviste scolare, sesiuni de referate si comunicari, alte actiuni la nivelul comisie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ri ale membrilor comisiei la programe si proi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MPONENTA DE FORMARE PROFESION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el cu participarea membrilor catedrei la cursuri de formare (finalizate sau in cur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icativele obtinute de cadrele didactice in ultimii trei ani (in copi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e de dezvoltare profesionala pentru membrii catedre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rta de formare a CCD pe disciplina respecti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 prezentate de profesori la sesiuni de comunicari si referate (lucrari persona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COMPONENTA DE FORMARE PROFESION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iecte elaborate la nivelul catedrei pentru diverse examene si concursuri sco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 forme individuale de formare (doctorate, masterat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i ale membrilor comisiei (copii dupa primele pag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04920" y="1008720"/>
            <a:ext cx="8458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.M. nr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200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ESTRU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s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luni, 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ptembrie 20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ineri, 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embrie 20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perioada 2 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iembrie 20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lasele din înv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ământul primar si grupele di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v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ământul prescolar sunt în vaca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can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âmbătă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embrie 20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uminică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anuarie 2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s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luni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anuarie 2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ineri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anua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Vacanţă intersemestria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– sâmbătă, 30 ianuarie 2010 – duminică, 7 februari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ESTRUL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Cursu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luni, 8 februarie 2010 – vineri, 2 aprili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Vacanţă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sâmbătă, 3 aprilie 2010 – duminică, 11 aprili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Cursu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luni, 12 aprilie 2010 – vineri, 11 iuni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Arial"/>
              </a:rPr>
              <a:t>Vacanta de vară 12 iunie -12 septembri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CTURA ANULUI SCOL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68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68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6:28:07Z</dcterms:created>
  <dc:creator>user</dc:creator>
  <dc:description/>
  <dc:language>en-US</dc:language>
  <cp:lastModifiedBy>User</cp:lastModifiedBy>
  <dcterms:modified xsi:type="dcterms:W3CDTF">2009-09-15T15:44:49Z</dcterms:modified>
  <cp:revision>35</cp:revision>
  <dc:subject/>
  <dc:title>REZULTATE OBTINUTE LA FAZA JUDETEANA A OLIMPIADEI DE CHIMIE</dc:title>
</cp:coreProperties>
</file>